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1E3-6D8C-49A7-9B43-7410B361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6ED-5C63-419F-9A3C-19B6E2AE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AFE-21FC-4355-A675-66586EFB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44D-E08D-4177-B00A-B9F9D53A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B07-7B86-4F1A-A2C7-A633411D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28E-98EF-4FED-B455-3529F1FB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697-09C4-4C86-8557-2F055100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0F1-C8C0-4A71-9616-AAFC54EB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EA3-F3CC-4803-90FF-F53F66D7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113-6029-4D4A-A6E5-E272F64B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7B7-078A-4B78-A16D-3F81A763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12B-092E-4E3E-BB75-1F951EA0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D6A8-B158-4F0B-8E79-E26CEC0D0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181480"/>
            <a:ext cx="79549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the masters defining S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de is set in a way to draw the straight line between the mirror and th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65240"/>
            <a:ext cx="9144000" cy="4458960"/>
            <a:chOff x="0" y="165240"/>
            <a:chExt cx="9144000" cy="4458960"/>
          </a:xfrm>
        </p:grpSpPr>
        <p:sp>
          <p:nvSpPr>
            <p:cNvPr id="43" name=""/>
            <p:cNvSpPr/>
            <p:nvPr/>
          </p:nvSpPr>
          <p:spPr>
            <a:xfrm rot="473400">
              <a:off x="2909520" y="3081240"/>
              <a:ext cx="3351240" cy="739800"/>
            </a:xfrm>
            <a:prstGeom prst="rect">
              <a:avLst/>
            </a:prstGeom>
            <a:solidFill>
              <a:srgbClr val="c0c0c0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377600">
              <a:off x="1155240" y="2484000"/>
              <a:ext cx="1847880" cy="739800"/>
            </a:xfrm>
            <a:prstGeom prst="rect">
              <a:avLst/>
            </a:prstGeom>
            <a:solidFill>
              <a:srgbClr val="c0c0c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61120" y="1652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105760" y="1652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36880" y="2030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3160" y="2030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0760" y="165240"/>
              <a:ext cx="0" cy="390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61120" y="380880"/>
              <a:ext cx="1827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0" y="4080960"/>
              <a:ext cx="914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61120" y="3697200"/>
              <a:ext cx="0" cy="3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88040" y="4119480"/>
              <a:ext cx="304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07120" y="5461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874960" y="380880"/>
              <a:ext cx="3386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220240" y="241200"/>
              <a:ext cx="609480" cy="807840"/>
              <a:chOff x="8220240" y="241200"/>
              <a:chExt cx="609480" cy="807840"/>
            </a:xfrm>
          </p:grpSpPr>
          <p:sp>
            <p:nvSpPr>
              <p:cNvPr id="57" name=""/>
              <p:cNvSpPr/>
              <p:nvPr/>
            </p:nvSpPr>
            <p:spPr>
              <a:xfrm flipV="1">
                <a:off x="8829720" y="316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448840" y="698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8525160" y="698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20240" y="545760"/>
                <a:ext cx="152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677440" y="774360"/>
                <a:ext cx="152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601120" y="241200"/>
                <a:ext cx="152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 rot="285600">
              <a:off x="7145280" y="4081320"/>
              <a:ext cx="1920960" cy="76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36880" y="3235320"/>
              <a:ext cx="0" cy="8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20760" y="2523960"/>
              <a:ext cx="1440" cy="15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46520" y="4119480"/>
              <a:ext cx="304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79640" y="4159080"/>
              <a:ext cx="3045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6400" y="2354400"/>
              <a:ext cx="0" cy="17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97960" y="4197240"/>
              <a:ext cx="576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M</a:t>
              </a:r>
              <a:br>
                <a:rPr sz="1800"/>
              </a:br>
              <a:r>
                <a:rPr b="0" lang="en-US" sz="1000" spc="-1" strike="noStrike">
                  <a:solidFill>
                    <a:srgbClr val="000000"/>
                  </a:solidFill>
                  <a:latin typeface="BrushScript BT"/>
                </a:rPr>
                <a:t>(mirro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0040" y="4159080"/>
              <a:ext cx="57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S</a:t>
              </a:r>
              <a:br>
                <a:rPr sz="1800"/>
              </a:br>
              <a:r>
                <a:rPr b="0" lang="en-US" sz="1000" spc="-1" strike="noStrike">
                  <a:solidFill>
                    <a:srgbClr val="000000"/>
                  </a:solidFill>
                  <a:latin typeface="BrushScript BT"/>
                </a:rPr>
                <a:t>(sampl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79760" y="5461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221840" y="372960"/>
              <a:ext cx="1636920" cy="7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803160" y="387360"/>
              <a:ext cx="403200" cy="7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68320" y="63648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85960" y="560520"/>
              <a:ext cx="422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802800" y="2354040"/>
              <a:ext cx="2133720" cy="880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82400" y="3235320"/>
              <a:ext cx="2454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36880" y="2911320"/>
              <a:ext cx="77760" cy="324000"/>
            </a:xfrm>
            <a:custGeom>
              <a:avLst/>
              <a:gdLst/>
              <a:ahLst/>
              <a:rect l="l" t="t" r="r" b="b"/>
              <a:pathLst>
                <a:path w="101" h="291">
                  <a:moveTo>
                    <a:pt x="101" y="0"/>
                  </a:moveTo>
                  <a:cubicBezTo>
                    <a:pt x="54" y="48"/>
                    <a:pt x="8" y="97"/>
                    <a:pt x="4" y="145"/>
                  </a:cubicBezTo>
                  <a:cubicBezTo>
                    <a:pt x="0" y="193"/>
                    <a:pt x="38" y="242"/>
                    <a:pt x="76" y="291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68320" y="2911320"/>
              <a:ext cx="19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93320" y="2430360"/>
              <a:ext cx="7923240" cy="164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3160" y="2354400"/>
              <a:ext cx="7302600" cy="17190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45240" y="3743280"/>
              <a:ext cx="77760" cy="345960"/>
            </a:xfrm>
            <a:custGeom>
              <a:avLst/>
              <a:gdLst/>
              <a:ahLst/>
              <a:rect l="l" t="t" r="r" b="b"/>
              <a:pathLst>
                <a:path w="101" h="291">
                  <a:moveTo>
                    <a:pt x="101" y="0"/>
                  </a:moveTo>
                  <a:cubicBezTo>
                    <a:pt x="54" y="48"/>
                    <a:pt x="8" y="97"/>
                    <a:pt x="4" y="145"/>
                  </a:cubicBezTo>
                  <a:cubicBezTo>
                    <a:pt x="0" y="193"/>
                    <a:pt x="38" y="242"/>
                    <a:pt x="76" y="291"/>
                  </a:cubicBez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47040" y="3357720"/>
              <a:ext cx="99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Script BT"/>
                </a:rPr>
                <a:t>AN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120" y="15228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tion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680" y="1009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30621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e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8200" y="1587600"/>
            <a:ext cx="76564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S 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/ (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46000" y="3618000"/>
            <a:ext cx="48974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S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S 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/ (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+L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s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5:54:48Z</dcterms:created>
  <dc:creator>rsanishvili</dc:creator>
  <dc:description/>
  <dc:language>en-US</dc:language>
  <cp:lastModifiedBy>Sergey Stepanov</cp:lastModifiedBy>
  <dcterms:modified xsi:type="dcterms:W3CDTF">2010-09-30T16:34:48Z</dcterms:modified>
  <cp:revision>62</cp:revision>
  <dc:subject/>
  <dc:title>Definitions</dc:title>
</cp:coreProperties>
</file>