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0EDAE-612C-4AFD-BEF2-507974838D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2B490-E7B4-4E02-9DFD-4EB1590EE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3ADDA-5B25-4B27-9150-4EF8D5963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A4106-A733-4076-8ADB-25C54B03F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1C8DC-E6B0-41D3-9517-2CC0801AF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3ED17-9B6A-4A3F-BE3D-3CEF11A7D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70C87-A2CC-4562-96B8-9825E19F9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BFF6E-B704-4014-916F-CEA4C139C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4A9AB-09C6-4996-8D92-093173632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D64B2-740D-42FE-8846-E543C3BD0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FB3AD-5AFF-4255-87FE-A250EC238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30F37-FB9F-42B8-A763-ECEFAE515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D42E7-1CD4-497C-B5EA-9D52F14C67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897520" y="40273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rot="180600">
            <a:off x="6935400" y="4492440"/>
            <a:ext cx="2055960" cy="83880"/>
          </a:xfrm>
          <a:prstGeom prst="rect">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954920" y="48117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4980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73560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169"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71" name=""/>
          <p:cNvSpPr/>
          <p:nvPr/>
        </p:nvSpPr>
        <p:spPr>
          <a:xfrm>
            <a:off x="411120" y="5834160"/>
            <a:ext cx="78487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2" name=""/>
          <p:cNvSpPr/>
          <p:nvPr/>
        </p:nvSpPr>
        <p:spPr>
          <a:xfrm flipH="1" flipV="1">
            <a:off x="944280" y="3592440"/>
            <a:ext cx="7086600" cy="9144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2960" y="4538520"/>
            <a:ext cx="25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4" name=""/>
          <p:cNvSpPr/>
          <p:nvPr/>
        </p:nvSpPr>
        <p:spPr>
          <a:xfrm flipH="1" flipV="1">
            <a:off x="1477800" y="183996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754880" y="377676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6" name=""/>
          <p:cNvSpPr/>
          <p:nvPr/>
        </p:nvSpPr>
        <p:spPr>
          <a:xfrm flipH="1" flipV="1">
            <a:off x="1538280" y="4503240"/>
            <a:ext cx="74073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7"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80"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925720" y="258840"/>
            <a:ext cx="376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a:t>
            </a:r>
            <a:endParaRPr b="0" lang="en-US" sz="1800" spc="-1" strike="noStrike">
              <a:solidFill>
                <a:srgbClr val="000000"/>
              </a:solidFill>
              <a:latin typeface="Arial"/>
            </a:endParaRPr>
          </a:p>
        </p:txBody>
      </p:sp>
      <p:sp>
        <p:nvSpPr>
          <p:cNvPr id="184" name=""/>
          <p:cNvSpPr/>
          <p:nvPr/>
        </p:nvSpPr>
        <p:spPr>
          <a:xfrm flipH="1">
            <a:off x="1844640" y="425448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5"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8"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91" name=""/>
          <p:cNvSpPr/>
          <p:nvPr/>
        </p:nvSpPr>
        <p:spPr>
          <a:xfrm>
            <a:off x="5075280" y="381312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rot="12267000">
            <a:off x="6609600" y="416736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878600" y="39294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19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95" name=""/>
          <p:cNvGrpSpPr/>
          <p:nvPr/>
        </p:nvGrpSpPr>
        <p:grpSpPr>
          <a:xfrm>
            <a:off x="7726320" y="880920"/>
            <a:ext cx="609480" cy="807840"/>
            <a:chOff x="7726320" y="880920"/>
            <a:chExt cx="609480" cy="807840"/>
          </a:xfrm>
        </p:grpSpPr>
        <p:sp>
          <p:nvSpPr>
            <p:cNvPr id="196"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00"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01"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0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0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1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17" name=""/>
          <p:cNvSpPr/>
          <p:nvPr/>
        </p:nvSpPr>
        <p:spPr>
          <a:xfrm>
            <a:off x="280512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18" name=""/>
          <p:cNvSpPr/>
          <p:nvPr/>
        </p:nvSpPr>
        <p:spPr>
          <a:xfrm>
            <a:off x="230652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19" name=""/>
          <p:cNvSpPr/>
          <p:nvPr/>
        </p:nvSpPr>
        <p:spPr>
          <a:xfrm>
            <a:off x="303516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2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21" name=""/>
          <p:cNvSpPr/>
          <p:nvPr/>
        </p:nvSpPr>
        <p:spPr>
          <a:xfrm>
            <a:off x="1884240" y="4273560"/>
            <a:ext cx="0" cy="2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61880" y="4159080"/>
            <a:ext cx="14590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24"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25"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6"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27"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228" name=""/>
          <p:cNvGrpSpPr/>
          <p:nvPr/>
        </p:nvGrpSpPr>
        <p:grpSpPr>
          <a:xfrm>
            <a:off x="193680" y="3736800"/>
            <a:ext cx="530280" cy="609840"/>
            <a:chOff x="193680" y="3736800"/>
            <a:chExt cx="530280" cy="609840"/>
          </a:xfrm>
        </p:grpSpPr>
        <p:sp>
          <p:nvSpPr>
            <p:cNvPr id="229"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31" name=""/>
          <p:cNvGrpSpPr/>
          <p:nvPr/>
        </p:nvGrpSpPr>
        <p:grpSpPr>
          <a:xfrm>
            <a:off x="615960" y="3006720"/>
            <a:ext cx="8077320" cy="717480"/>
            <a:chOff x="615960" y="3006720"/>
            <a:chExt cx="8077320" cy="717480"/>
          </a:xfrm>
        </p:grpSpPr>
        <p:sp>
          <p:nvSpPr>
            <p:cNvPr id="232"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233"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5"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237"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238"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239" name=""/>
          <p:cNvGrpSpPr/>
          <p:nvPr/>
        </p:nvGrpSpPr>
        <p:grpSpPr>
          <a:xfrm>
            <a:off x="2075040" y="5234040"/>
            <a:ext cx="3569760" cy="867600"/>
            <a:chOff x="2075040" y="5234040"/>
            <a:chExt cx="3569760" cy="867600"/>
          </a:xfrm>
        </p:grpSpPr>
        <p:sp>
          <p:nvSpPr>
            <p:cNvPr id="240"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1"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42"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43"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5"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246"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7"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8"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09480" y="4952880"/>
            <a:ext cx="78487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50" name=""/>
          <p:cNvSpPr/>
          <p:nvPr/>
        </p:nvSpPr>
        <p:spPr>
          <a:xfrm>
            <a:off x="2925720" y="258840"/>
            <a:ext cx="32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a:t>
            </a:r>
            <a:endParaRPr b="0" lang="en-US" sz="1800" spc="-1" strike="noStrike">
              <a:solidFill>
                <a:srgbClr val="000000"/>
              </a:solidFill>
              <a:latin typeface="Arial"/>
            </a:endParaRPr>
          </a:p>
        </p:txBody>
      </p:sp>
      <p:sp>
        <p:nvSpPr>
          <p:cNvPr id="251" name=""/>
          <p:cNvSpPr/>
          <p:nvPr/>
        </p:nvSpPr>
        <p:spPr>
          <a:xfrm>
            <a:off x="8305920" y="1295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7924320" y="12952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flipV="1">
            <a:off x="8153280" y="10663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726320" y="118584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55" name=""/>
          <p:cNvSpPr/>
          <p:nvPr/>
        </p:nvSpPr>
        <p:spPr>
          <a:xfrm>
            <a:off x="8077320" y="15238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56" name=""/>
          <p:cNvSpPr/>
          <p:nvPr/>
        </p:nvSpPr>
        <p:spPr>
          <a:xfrm>
            <a:off x="8001000" y="7621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257" name=""/>
          <p:cNvSpPr/>
          <p:nvPr/>
        </p:nvSpPr>
        <p:spPr>
          <a:xfrm>
            <a:off x="4952880" y="303228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7838640" y="3260880"/>
            <a:ext cx="9720" cy="14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502160" y="3081240"/>
            <a:ext cx="277920" cy="38124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495680" y="3260880"/>
            <a:ext cx="277920" cy="3790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rot="10660800">
            <a:off x="6969960" y="3193560"/>
            <a:ext cx="17161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62" name=""/>
          <p:cNvSpPr/>
          <p:nvPr/>
        </p:nvSpPr>
        <p:spPr>
          <a:xfrm>
            <a:off x="1209600" y="2943360"/>
            <a:ext cx="1413000" cy="1396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638600" y="2881440"/>
            <a:ext cx="3240" cy="102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15000" y="32608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648320" y="387036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30640" y="39654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267" name=""/>
          <p:cNvSpPr/>
          <p:nvPr/>
        </p:nvSpPr>
        <p:spPr>
          <a:xfrm>
            <a:off x="2646360" y="387036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011400" y="395604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9" name=""/>
          <p:cNvSpPr/>
          <p:nvPr/>
        </p:nvSpPr>
        <p:spPr>
          <a:xfrm flipH="1">
            <a:off x="457200" y="3260880"/>
            <a:ext cx="7432560" cy="5331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a:off x="6780960" y="3413160"/>
            <a:ext cx="685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271" name=""/>
          <p:cNvSpPr/>
          <p:nvPr/>
        </p:nvSpPr>
        <p:spPr>
          <a:xfrm flipH="1" flipV="1">
            <a:off x="844200" y="3255840"/>
            <a:ext cx="7994520" cy="5040"/>
          </a:xfrm>
          <a:prstGeom prst="line">
            <a:avLst/>
          </a:prstGeom>
          <a:ln w="93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2" name=""/>
          <p:cNvSpPr/>
          <p:nvPr/>
        </p:nvSpPr>
        <p:spPr>
          <a:xfrm>
            <a:off x="1117440" y="325116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rot="12267000">
            <a:off x="6730560" y="3131280"/>
            <a:ext cx="240840" cy="32220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162920" y="259128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275" name=""/>
          <p:cNvSpPr/>
          <p:nvPr/>
        </p:nvSpPr>
        <p:spPr>
          <a:xfrm>
            <a:off x="4267080" y="257544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276" name=""/>
          <p:cNvSpPr/>
          <p:nvPr/>
        </p:nvSpPr>
        <p:spPr>
          <a:xfrm>
            <a:off x="1585800" y="25722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77" name=""/>
          <p:cNvSpPr/>
          <p:nvPr/>
        </p:nvSpPr>
        <p:spPr>
          <a:xfrm flipH="1">
            <a:off x="1009440" y="364176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715000" y="387036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88280" y="394812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sp>
        <p:nvSpPr>
          <p:cNvPr id="280" name=""/>
          <p:cNvSpPr/>
          <p:nvPr/>
        </p:nvSpPr>
        <p:spPr>
          <a:xfrm>
            <a:off x="5334120" y="259128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281" name=""/>
          <p:cNvSpPr/>
          <p:nvPr/>
        </p:nvSpPr>
        <p:spPr>
          <a:xfrm>
            <a:off x="380880" y="3343320"/>
            <a:ext cx="6858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282" name=""/>
          <p:cNvSpPr/>
          <p:nvPr/>
        </p:nvSpPr>
        <p:spPr>
          <a:xfrm>
            <a:off x="2631960" y="3567240"/>
            <a:ext cx="3240" cy="1093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662200" y="4402080"/>
            <a:ext cx="520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192640" y="449748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5-04-27T14:41:35Z</dcterms:modified>
  <cp:revision>53</cp:revision>
  <dc:subject/>
  <dc:title>Definitions</dc:title>
</cp:coreProperties>
</file>