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D2E0B-5625-4E70-A1D5-36B2A5CD7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AD9C9-2B9F-4034-B441-5F2D75B03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7BE6D-7C69-46EE-BAEA-CBD7CDB60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E862B-6AB7-4953-A379-7A2A31571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10BEA-E06F-4522-B172-4744CC96E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E8986-2DC5-461D-8867-6994EAF66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07BDB-5C59-48F6-A3EC-E9F75FB9B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ABF67-59DF-49EF-84EB-4549792A3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FB6C2-3C28-424D-9959-A3B9A4D97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B5957-E04B-4871-8173-A97148225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F3EE3-5B95-4516-8772-6CB75DFFE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FDA59-6A9C-4105-9060-EDF48AD71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1E6E4-110B-411E-BB79-6D91FBAD21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5181480"/>
            <a:ext cx="7954920" cy="7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re the masters defining S and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The 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de is set in a way to draw the straight line between the mirror and the samp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0" y="165240"/>
            <a:ext cx="9144000" cy="4458960"/>
            <a:chOff x="0" y="165240"/>
            <a:chExt cx="9144000" cy="4458960"/>
          </a:xfrm>
        </p:grpSpPr>
        <p:sp>
          <p:nvSpPr>
            <p:cNvPr id="43" name=""/>
            <p:cNvSpPr/>
            <p:nvPr/>
          </p:nvSpPr>
          <p:spPr>
            <a:xfrm rot="473400">
              <a:off x="2909520" y="3081240"/>
              <a:ext cx="3351240" cy="739800"/>
            </a:xfrm>
            <a:prstGeom prst="rect">
              <a:avLst/>
            </a:prstGeom>
            <a:solidFill>
              <a:srgbClr val="c0c0c0">
                <a:alpha val="15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rot="1377600">
              <a:off x="1155240" y="2484000"/>
              <a:ext cx="1847880" cy="739800"/>
            </a:xfrm>
            <a:prstGeom prst="rect">
              <a:avLst/>
            </a:prstGeom>
            <a:solidFill>
              <a:srgbClr val="c0c0c0">
                <a:alpha val="25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261120" y="165240"/>
              <a:ext cx="0" cy="38862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8105760" y="165240"/>
              <a:ext cx="0" cy="38862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936880" y="203040"/>
              <a:ext cx="0" cy="38862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03160" y="203040"/>
              <a:ext cx="0" cy="38862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220760" y="165240"/>
              <a:ext cx="0" cy="39081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261120" y="380880"/>
              <a:ext cx="182736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0" y="4080960"/>
              <a:ext cx="91440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261120" y="3697200"/>
              <a:ext cx="0" cy="38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188040" y="4119480"/>
              <a:ext cx="30492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rushScript BT"/>
                </a:rPr>
                <a:t>H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107120" y="546120"/>
              <a:ext cx="42228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m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H="1">
              <a:off x="2874960" y="380880"/>
              <a:ext cx="338616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8220240" y="241200"/>
              <a:ext cx="609480" cy="807840"/>
              <a:chOff x="8220240" y="241200"/>
              <a:chExt cx="609480" cy="807840"/>
            </a:xfrm>
          </p:grpSpPr>
          <p:sp>
            <p:nvSpPr>
              <p:cNvPr id="57" name=""/>
              <p:cNvSpPr/>
              <p:nvPr/>
            </p:nvSpPr>
            <p:spPr>
              <a:xfrm flipV="1">
                <a:off x="8829720" y="316800"/>
                <a:ext cx="0" cy="381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flipH="1">
                <a:off x="8448840" y="698400"/>
                <a:ext cx="38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flipH="1">
                <a:off x="8525160" y="698400"/>
                <a:ext cx="30456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8220240" y="545760"/>
                <a:ext cx="1522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8677440" y="774360"/>
                <a:ext cx="1522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8601120" y="241200"/>
                <a:ext cx="1526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z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" name=""/>
            <p:cNvSpPr/>
            <p:nvPr/>
          </p:nvSpPr>
          <p:spPr>
            <a:xfrm rot="285600">
              <a:off x="7145280" y="4081320"/>
              <a:ext cx="1920960" cy="763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936880" y="3235320"/>
              <a:ext cx="0" cy="85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220760" y="2523960"/>
              <a:ext cx="1440" cy="1559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846520" y="4119480"/>
              <a:ext cx="30456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rushScript BT"/>
                </a:rPr>
                <a:t>H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079640" y="4159080"/>
              <a:ext cx="30456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rushScript BT"/>
                </a:rPr>
                <a:t>H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06400" y="2354400"/>
              <a:ext cx="0" cy="1719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797960" y="4197240"/>
              <a:ext cx="57600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rushScript BT"/>
                </a:rPr>
                <a:t>M</a:t>
              </a:r>
              <a:br>
                <a:rPr sz="1800"/>
              </a:br>
              <a:r>
                <a:rPr b="0" lang="en-US" sz="1000" spc="-1" strike="noStrike">
                  <a:solidFill>
                    <a:srgbClr val="000000"/>
                  </a:solidFill>
                  <a:latin typeface="BrushScript BT"/>
                </a:rPr>
                <a:t>(mirror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0040" y="4159080"/>
              <a:ext cx="57636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rushScript BT"/>
                </a:rPr>
                <a:t>S</a:t>
              </a:r>
              <a:br>
                <a:rPr sz="1800"/>
              </a:br>
              <a:r>
                <a:rPr b="0" lang="en-US" sz="1000" spc="-1" strike="noStrike">
                  <a:solidFill>
                    <a:srgbClr val="000000"/>
                  </a:solidFill>
                  <a:latin typeface="BrushScript BT"/>
                </a:rPr>
                <a:t>(sample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79760" y="546120"/>
              <a:ext cx="42228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flipH="1">
              <a:off x="1221840" y="372960"/>
              <a:ext cx="1636920" cy="792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803160" y="387360"/>
              <a:ext cx="403200" cy="792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68320" y="636480"/>
              <a:ext cx="42228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2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85960" y="560520"/>
              <a:ext cx="42228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s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802800" y="2354040"/>
              <a:ext cx="2133720" cy="88092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82400" y="3235320"/>
              <a:ext cx="24541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036880" y="2911320"/>
              <a:ext cx="77760" cy="324000"/>
            </a:xfrm>
            <a:custGeom>
              <a:avLst/>
              <a:gdLst/>
              <a:ahLst/>
              <a:rect l="l" t="t" r="r" b="b"/>
              <a:pathLst>
                <a:path w="101" h="291">
                  <a:moveTo>
                    <a:pt x="101" y="0"/>
                  </a:moveTo>
                  <a:cubicBezTo>
                    <a:pt x="54" y="48"/>
                    <a:pt x="8" y="97"/>
                    <a:pt x="4" y="145"/>
                  </a:cubicBezTo>
                  <a:cubicBezTo>
                    <a:pt x="0" y="193"/>
                    <a:pt x="38" y="242"/>
                    <a:pt x="76" y="291"/>
                  </a:cubicBezTo>
                </a:path>
              </a:pathLst>
            </a:custGeom>
            <a:noFill/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768320" y="2911320"/>
              <a:ext cx="192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 flipH="1" flipV="1">
              <a:off x="193320" y="2430360"/>
              <a:ext cx="7923240" cy="16430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803160" y="2354400"/>
              <a:ext cx="7302600" cy="171900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645240" y="3743280"/>
              <a:ext cx="77760" cy="345960"/>
            </a:xfrm>
            <a:custGeom>
              <a:avLst/>
              <a:gdLst/>
              <a:ahLst/>
              <a:rect l="l" t="t" r="r" b="b"/>
              <a:pathLst>
                <a:path w="101" h="291">
                  <a:moveTo>
                    <a:pt x="101" y="0"/>
                  </a:moveTo>
                  <a:cubicBezTo>
                    <a:pt x="54" y="48"/>
                    <a:pt x="8" y="97"/>
                    <a:pt x="4" y="145"/>
                  </a:cubicBezTo>
                  <a:cubicBezTo>
                    <a:pt x="0" y="193"/>
                    <a:pt x="38" y="242"/>
                    <a:pt x="76" y="291"/>
                  </a:cubicBezTo>
                </a:path>
              </a:pathLst>
            </a:custGeom>
            <a:noFill/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647040" y="3357720"/>
              <a:ext cx="9968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rushScript BT"/>
                </a:rPr>
                <a:t>ANG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3048120" y="152280"/>
            <a:ext cx="207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Motion equ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71680" y="10098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 equa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15960" y="306216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erse equa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8200" y="1587600"/>
            <a:ext cx="7656480" cy="102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Θ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(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/ 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= 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= 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+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– 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H</a:t>
            </a:r>
            <a:r>
              <a:rPr b="0" lang="en-US" sz="1800" spc="-1" strike="noStrike" baseline="-25000">
                <a:solidFill>
                  <a:srgbClr val="0000ff"/>
                </a:solidFill>
                <a:latin typeface="Arial"/>
              </a:rPr>
              <a:t>1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= S L</a:t>
            </a:r>
            <a:r>
              <a:rPr b="0" lang="en-US" sz="1800" spc="-1" strike="noStrike" baseline="-25000">
                <a:solidFill>
                  <a:srgbClr val="0000ff"/>
                </a:solidFill>
                <a:latin typeface="Arial"/>
              </a:rPr>
              <a:t>m1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/ (L</a:t>
            </a:r>
            <a:r>
              <a:rPr b="0" lang="en-US" sz="1800" spc="-1" strike="noStrike" baseline="-25000">
                <a:solidFill>
                  <a:srgbClr val="0000ff"/>
                </a:solidFill>
                <a:latin typeface="Arial"/>
              </a:rPr>
              <a:t>m1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+L</a:t>
            </a:r>
            <a:r>
              <a:rPr b="0" lang="en-US" sz="1800" spc="-1" strike="noStrike" baseline="-25000">
                <a:solidFill>
                  <a:srgbClr val="0000ff"/>
                </a:solidFill>
                <a:latin typeface="Arial"/>
              </a:rPr>
              <a:t>12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+L</a:t>
            </a:r>
            <a:r>
              <a:rPr b="0" lang="en-US" sz="1800" spc="-1" strike="noStrike" baseline="-25000">
                <a:solidFill>
                  <a:srgbClr val="0000ff"/>
                </a:solidFill>
                <a:latin typeface="Arial"/>
              </a:rPr>
              <a:t>23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+L</a:t>
            </a:r>
            <a:r>
              <a:rPr b="0" lang="en-US" sz="1800" spc="-1" strike="noStrike" baseline="-25000">
                <a:solidFill>
                  <a:srgbClr val="0000ff"/>
                </a:solidFill>
                <a:latin typeface="Arial"/>
              </a:rPr>
              <a:t>s3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46000" y="3618000"/>
            <a:ext cx="4897440" cy="102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S –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S –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H</a:t>
            </a:r>
            <a:r>
              <a:rPr b="0" lang="en-US" sz="1800" spc="-1" strike="noStrike" baseline="-25000">
                <a:solidFill>
                  <a:srgbClr val="0000ff"/>
                </a:solidFill>
                <a:latin typeface="Arial"/>
              </a:rPr>
              <a:t>1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= S L</a:t>
            </a:r>
            <a:r>
              <a:rPr b="0" lang="en-US" sz="1800" spc="-1" strike="noStrike" baseline="-25000">
                <a:solidFill>
                  <a:srgbClr val="0000ff"/>
                </a:solidFill>
                <a:latin typeface="Arial"/>
              </a:rPr>
              <a:t>m1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/ (L</a:t>
            </a:r>
            <a:r>
              <a:rPr b="0" lang="en-US" sz="1800" spc="-1" strike="noStrike" baseline="-25000">
                <a:solidFill>
                  <a:srgbClr val="0000ff"/>
                </a:solidFill>
                <a:latin typeface="Arial"/>
              </a:rPr>
              <a:t>m1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+L</a:t>
            </a:r>
            <a:r>
              <a:rPr b="0" lang="en-US" sz="1800" spc="-1" strike="noStrike" baseline="-25000">
                <a:solidFill>
                  <a:srgbClr val="0000ff"/>
                </a:solidFill>
                <a:latin typeface="Arial"/>
              </a:rPr>
              <a:t>12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+L</a:t>
            </a:r>
            <a:r>
              <a:rPr b="0" lang="en-US" sz="1800" spc="-1" strike="noStrike" baseline="-25000">
                <a:solidFill>
                  <a:srgbClr val="0000ff"/>
                </a:solidFill>
                <a:latin typeface="Arial"/>
              </a:rPr>
              <a:t>23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+L</a:t>
            </a:r>
            <a:r>
              <a:rPr b="0" lang="en-US" sz="1800" spc="-1" strike="noStrike" baseline="-25000">
                <a:solidFill>
                  <a:srgbClr val="0000ff"/>
                </a:solidFill>
                <a:latin typeface="Arial"/>
              </a:rPr>
              <a:t>s3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0T15:54:48Z</dcterms:created>
  <dc:creator>rsanishvili</dc:creator>
  <dc:description/>
  <dc:language>en-US</dc:language>
  <cp:lastModifiedBy>Sergey Stepanov</cp:lastModifiedBy>
  <dcterms:modified xsi:type="dcterms:W3CDTF">2010-09-30T16:34:48Z</dcterms:modified>
  <cp:revision>62</cp:revision>
  <dc:subject/>
  <dc:title>Definitions</dc:title>
</cp:coreProperties>
</file>