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B052-AFE4-4663-AFEE-00A6885E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D52B-B3CD-467A-A375-9C48D873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3D53-5BDA-41D2-982B-B19B6D963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2822-8A42-4BAF-84AA-4B3FB9D8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8277-7A2D-4673-AD3F-6119E257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0E94-443F-45B9-8009-4870F37F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52CF-4EA0-48AF-A0B6-7C846E7E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5C36-9D7F-4C1E-85FF-0892CAEE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EBD7-1B29-4A86-BF19-77B93775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A863-9073-42FF-9E64-F49EAB60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AA33-E50C-47EA-BAA4-E7E13029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C511-C0D7-4A3C-8800-CE187198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394C-9907-49AB-A3C6-D43E5C2B5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5181480"/>
            <a:ext cx="795492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re the masters defining S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e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de is set in a way to draw the straight line between the mirror and the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165240"/>
            <a:ext cx="9144000" cy="4458960"/>
            <a:chOff x="0" y="165240"/>
            <a:chExt cx="9144000" cy="4458960"/>
          </a:xfrm>
        </p:grpSpPr>
        <p:sp>
          <p:nvSpPr>
            <p:cNvPr id="43" name=""/>
            <p:cNvSpPr/>
            <p:nvPr/>
          </p:nvSpPr>
          <p:spPr>
            <a:xfrm rot="473400">
              <a:off x="2909520" y="3081240"/>
              <a:ext cx="3351240" cy="739800"/>
            </a:xfrm>
            <a:prstGeom prst="rect">
              <a:avLst/>
            </a:prstGeom>
            <a:solidFill>
              <a:srgbClr val="c0c0c0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1377600">
              <a:off x="1155240" y="2484000"/>
              <a:ext cx="1847880" cy="739800"/>
            </a:xfrm>
            <a:prstGeom prst="rect">
              <a:avLst/>
            </a:prstGeom>
            <a:solidFill>
              <a:srgbClr val="c0c0c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261120" y="16524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105760" y="16524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936880" y="20304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3160" y="20304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20760" y="165240"/>
              <a:ext cx="0" cy="3908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261120" y="380880"/>
              <a:ext cx="18273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0" y="4080960"/>
              <a:ext cx="9144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61120" y="3697200"/>
              <a:ext cx="0" cy="38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188040" y="4119480"/>
              <a:ext cx="3049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Script BT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07120" y="546120"/>
              <a:ext cx="422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m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2874960" y="380880"/>
              <a:ext cx="3386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220240" y="241200"/>
              <a:ext cx="609480" cy="807840"/>
              <a:chOff x="8220240" y="241200"/>
              <a:chExt cx="609480" cy="807840"/>
            </a:xfrm>
          </p:grpSpPr>
          <p:sp>
            <p:nvSpPr>
              <p:cNvPr id="57" name=""/>
              <p:cNvSpPr/>
              <p:nvPr/>
            </p:nvSpPr>
            <p:spPr>
              <a:xfrm flipV="1">
                <a:off x="8829720" y="31680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8448840" y="6984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8525160" y="698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220240" y="545760"/>
                <a:ext cx="152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677440" y="774360"/>
                <a:ext cx="152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601120" y="241200"/>
                <a:ext cx="1526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 rot="285600">
              <a:off x="7145280" y="4081320"/>
              <a:ext cx="1920960" cy="76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36880" y="3235320"/>
              <a:ext cx="0" cy="85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20760" y="2523960"/>
              <a:ext cx="1440" cy="155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46520" y="4119480"/>
              <a:ext cx="304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Script BT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79640" y="4159080"/>
              <a:ext cx="304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Script BT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06400" y="2354400"/>
              <a:ext cx="0" cy="171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797960" y="4197240"/>
              <a:ext cx="576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Script BT"/>
                </a:rPr>
                <a:t>M</a:t>
              </a:r>
              <a:br>
                <a:rPr sz="1800"/>
              </a:br>
              <a:r>
                <a:rPr b="0" lang="en-US" sz="1000" spc="-1" strike="noStrike">
                  <a:solidFill>
                    <a:srgbClr val="000000"/>
                  </a:solidFill>
                  <a:latin typeface="BrushScript BT"/>
                </a:rPr>
                <a:t>(mirror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0040" y="4159080"/>
              <a:ext cx="576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Script BT"/>
                </a:rPr>
                <a:t>S</a:t>
              </a:r>
              <a:br>
                <a:rPr sz="1800"/>
              </a:br>
              <a:r>
                <a:rPr b="0" lang="en-US" sz="1000" spc="-1" strike="noStrike">
                  <a:solidFill>
                    <a:srgbClr val="000000"/>
                  </a:solidFill>
                  <a:latin typeface="BrushScript BT"/>
                </a:rPr>
                <a:t>(sample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79760" y="546120"/>
              <a:ext cx="422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1221840" y="372960"/>
              <a:ext cx="1636920" cy="7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803160" y="387360"/>
              <a:ext cx="403200" cy="7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68320" y="636480"/>
              <a:ext cx="422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85960" y="560520"/>
              <a:ext cx="422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s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802800" y="2354040"/>
              <a:ext cx="2133720" cy="880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82400" y="3235320"/>
              <a:ext cx="2454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36880" y="2911320"/>
              <a:ext cx="77760" cy="324000"/>
            </a:xfrm>
            <a:custGeom>
              <a:avLst/>
              <a:gdLst/>
              <a:ahLst/>
              <a:rect l="l" t="t" r="r" b="b"/>
              <a:pathLst>
                <a:path w="101" h="291">
                  <a:moveTo>
                    <a:pt x="101" y="0"/>
                  </a:moveTo>
                  <a:cubicBezTo>
                    <a:pt x="54" y="48"/>
                    <a:pt x="8" y="97"/>
                    <a:pt x="4" y="145"/>
                  </a:cubicBezTo>
                  <a:cubicBezTo>
                    <a:pt x="0" y="193"/>
                    <a:pt x="38" y="242"/>
                    <a:pt x="76" y="291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768320" y="2911320"/>
              <a:ext cx="19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193320" y="2430360"/>
              <a:ext cx="7923240" cy="1643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03160" y="2354400"/>
              <a:ext cx="7302600" cy="1719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45240" y="3743280"/>
              <a:ext cx="77760" cy="345960"/>
            </a:xfrm>
            <a:custGeom>
              <a:avLst/>
              <a:gdLst/>
              <a:ahLst/>
              <a:rect l="l" t="t" r="r" b="b"/>
              <a:pathLst>
                <a:path w="101" h="291">
                  <a:moveTo>
                    <a:pt x="101" y="0"/>
                  </a:moveTo>
                  <a:cubicBezTo>
                    <a:pt x="54" y="48"/>
                    <a:pt x="8" y="97"/>
                    <a:pt x="4" y="145"/>
                  </a:cubicBezTo>
                  <a:cubicBezTo>
                    <a:pt x="0" y="193"/>
                    <a:pt x="38" y="242"/>
                    <a:pt x="76" y="291"/>
                  </a:cubicBez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47040" y="3357720"/>
              <a:ext cx="99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Script BT"/>
                </a:rPr>
                <a:t>ANG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8120" y="152280"/>
            <a:ext cx="20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tion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1680" y="10098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equ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960" y="306216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rse equ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8200" y="1587600"/>
            <a:ext cx="765648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(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/ 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+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 S 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m1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/ (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m1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+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+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+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s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46000" y="3618000"/>
            <a:ext cx="489744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S 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S 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 S 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m1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/ (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m1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+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+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+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s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0T15:54:48Z</dcterms:created>
  <dc:creator>rsanishvili</dc:creator>
  <dc:description/>
  <dc:language>en-US</dc:language>
  <cp:lastModifiedBy>Sergey Stepanov</cp:lastModifiedBy>
  <dcterms:modified xsi:type="dcterms:W3CDTF">2010-09-30T16:34:48Z</dcterms:modified>
  <cp:revision>62</cp:revision>
  <dc:subject/>
  <dc:title>Definitions</dc:title>
</cp:coreProperties>
</file>