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A603F-EC8D-4617-BAAE-8151AD210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0155A-35DE-44A9-9306-5C7C7DB62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11332-9063-48F8-91C9-5F4E0E2AD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9D050-4B03-402C-AC8B-4CA8F2CD2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A3A48-517A-45CD-997A-BEF202E1C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92F66-6C28-424C-892A-E767736C3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6B745-1BC6-40D0-936E-D280BE70E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F738C-46D6-469B-AE0F-F90D093F4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6D4F7-52C5-409C-AA26-F24DEEFCE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82967-7FF1-46EB-9BF8-47E67313A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5388E-CE97-40F8-B8FD-8F939536F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2775A-EB1E-4A7C-B2FC-54C5C5198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2526-50DD-43FA-84C0-983E17D880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927160" y="258840"/>
            <a:ext cx="188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M MEDM slide</a:t>
            </a:r>
            <a:endParaRPr b="0" lang="en-US" sz="1800" spc="-1" strike="noStrike">
              <a:solidFill>
                <a:srgbClr val="000000"/>
              </a:solidFill>
              <a:latin typeface="Arial"/>
            </a:endParaRPr>
          </a:p>
        </p:txBody>
      </p:sp>
      <p:grpSp>
        <p:nvGrpSpPr>
          <p:cNvPr id="163" name=""/>
          <p:cNvGrpSpPr/>
          <p:nvPr/>
        </p:nvGrpSpPr>
        <p:grpSpPr>
          <a:xfrm>
            <a:off x="944640" y="804960"/>
            <a:ext cx="6354360" cy="4540320"/>
            <a:chOff x="944640" y="804960"/>
            <a:chExt cx="6354360" cy="4540320"/>
          </a:xfrm>
        </p:grpSpPr>
        <p:sp>
          <p:nvSpPr>
            <p:cNvPr id="164"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68" name=""/>
            <p:cNvSpPr/>
            <p:nvPr/>
          </p:nvSpPr>
          <p:spPr>
            <a:xfrm flipH="1" flipV="1">
              <a:off x="1460160" y="2084400"/>
              <a:ext cx="456876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56480" y="4159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0" name=""/>
            <p:cNvSpPr/>
            <p:nvPr/>
          </p:nvSpPr>
          <p:spPr>
            <a:xfrm flipH="1">
              <a:off x="1537920" y="450360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74"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0"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83" name=""/>
            <p:cNvSpPr/>
            <p:nvPr/>
          </p:nvSpPr>
          <p:spPr>
            <a:xfrm>
              <a:off x="5302080" y="4197240"/>
              <a:ext cx="15264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85" name=""/>
            <p:cNvGrpSpPr/>
            <p:nvPr/>
          </p:nvGrpSpPr>
          <p:grpSpPr>
            <a:xfrm>
              <a:off x="6645240" y="1508040"/>
              <a:ext cx="609480" cy="807840"/>
              <a:chOff x="6645240" y="1508040"/>
              <a:chExt cx="609480" cy="807840"/>
            </a:xfrm>
          </p:grpSpPr>
          <p:sp>
            <p:nvSpPr>
              <p:cNvPr id="186" name=""/>
              <p:cNvSpPr/>
              <p:nvPr/>
            </p:nvSpPr>
            <p:spPr>
              <a:xfrm flipV="1">
                <a:off x="7254720" y="1583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6873840" y="19652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6950160" y="196524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645240" y="18126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90" name=""/>
              <p:cNvSpPr/>
              <p:nvPr/>
            </p:nvSpPr>
            <p:spPr>
              <a:xfrm>
                <a:off x="7102440" y="20412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1" name=""/>
              <p:cNvSpPr/>
              <p:nvPr/>
            </p:nvSpPr>
            <p:spPr>
              <a:xfrm>
                <a:off x="7026120" y="15080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9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19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9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0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2765520" y="350532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sp>
          <p:nvSpPr>
            <p:cNvPr id="208" name=""/>
            <p:cNvSpPr/>
            <p:nvPr/>
          </p:nvSpPr>
          <p:spPr>
            <a:xfrm>
              <a:off x="2266920" y="26938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09" name=""/>
            <p:cNvSpPr/>
            <p:nvPr/>
          </p:nvSpPr>
          <p:spPr>
            <a:xfrm>
              <a:off x="2997360" y="300024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1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12"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13"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4"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15"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16" name=""/>
          <p:cNvGrpSpPr/>
          <p:nvPr/>
        </p:nvGrpSpPr>
        <p:grpSpPr>
          <a:xfrm>
            <a:off x="193680" y="3736800"/>
            <a:ext cx="530280" cy="609840"/>
            <a:chOff x="193680" y="3736800"/>
            <a:chExt cx="530280" cy="609840"/>
          </a:xfrm>
        </p:grpSpPr>
        <p:sp>
          <p:nvSpPr>
            <p:cNvPr id="217"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19" name=""/>
          <p:cNvGrpSpPr/>
          <p:nvPr/>
        </p:nvGrpSpPr>
        <p:grpSpPr>
          <a:xfrm>
            <a:off x="615960" y="3006720"/>
            <a:ext cx="8077320" cy="717480"/>
            <a:chOff x="615960" y="3006720"/>
            <a:chExt cx="8077320" cy="717480"/>
          </a:xfrm>
        </p:grpSpPr>
        <p:sp>
          <p:nvSpPr>
            <p:cNvPr id="220"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21"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25"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26"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27" name=""/>
          <p:cNvGrpSpPr/>
          <p:nvPr/>
        </p:nvGrpSpPr>
        <p:grpSpPr>
          <a:xfrm>
            <a:off x="2075040" y="5234040"/>
            <a:ext cx="3569760" cy="867600"/>
            <a:chOff x="2075040" y="5234040"/>
            <a:chExt cx="3569760" cy="867600"/>
          </a:xfrm>
        </p:grpSpPr>
        <p:sp>
          <p:nvSpPr>
            <p:cNvPr id="228"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30"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31"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3"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34"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6"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6-07-10T21:07:26Z</dcterms:modified>
  <cp:revision>56</cp:revision>
  <dc:subject/>
  <dc:title>Definitions</dc:title>
</cp:coreProperties>
</file>